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4AB2-D50C-4D56-899D-095E962C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EB3-E8C1-4E9A-A41D-BA400384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7C02-CC76-4F73-985C-3C544159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530-977E-4BBE-8D08-8115EA7E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AE9-F736-4E54-9916-451AE924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6C6-100D-442E-A90E-BB16EBDC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322-D4A7-445F-9EE4-1794D74F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D51D-3186-43B5-9BC1-C475FA5E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28C5-9493-453D-8133-D56A52E0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BAB-E951-40AD-8FA6-8A65516C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6BA-F8FE-470E-91C9-C31A868D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272-71E4-4194-B76A-A6C3658B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949A-C2C9-4E4C-979D-62795F4701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b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wso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’Connell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ton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so Vittorio Emmanu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so Euro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n Duo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ulevard Victor Hu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e Lamar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enue Jean-Medec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09:57:24Z</dcterms:created>
  <dc:creator/>
  <dc:description/>
  <dc:language>en-US</dc:language>
  <cp:lastModifiedBy>User</cp:lastModifiedBy>
  <dcterms:modified xsi:type="dcterms:W3CDTF">2003-10-21T12:08:16Z</dcterms:modified>
  <cp:revision>7</cp:revision>
  <dc:subject/>
  <dc:title>Dublin</dc:title>
</cp:coreProperties>
</file>