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247-32A1-41D7-81F2-20F736B8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4DF-6149-47C5-8BB0-922DEFF9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424-6248-4DD6-A0B1-689F3D82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D0C-41F3-45CB-A38F-4A5F7562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862A-DF3A-40FC-A329-0CF10E31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32A2-E14D-4EEC-803F-0A6FA9A9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F07E-7E7B-4CCC-9FF5-E6CB69D6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2E9E-BEB7-4372-BD68-72B3E6E5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AC3F-D1BF-4633-8D87-259A328D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AC44-FA2F-47D0-A606-C12EFD61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4087-B911-4350-8B57-6F46A6E5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FF7-349F-4B88-8DE5-204108A0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3D9D-FA1B-4162-B4C8-B62A1EC1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818B-5CE7-4E53-8DAF-465D0CD6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AC6D-91DD-482D-A4FB-E11F77B1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6D0D-7A60-4CB3-8D27-FEB665F0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A094-2BC7-4060-AFEA-3C48E29A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550-A5F7-44FD-81C2-E411A4A1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E41-3DB9-480C-9A53-7990F9F2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179-4BEB-4767-AFB3-07035989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0C9-327A-4B3F-943E-8012F8BD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C5A-7078-4DD5-BE70-6591A923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DB4-D17C-404A-A033-9802D4D8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B6E-EC63-4A71-B76D-992EE1D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D5E3-AFDE-4807-B0ED-468537541E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0D4F-8576-43C9-9BFE-680BD2A68ED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2674800"/>
          <a:ext cx="800100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74800"/>
                    <a:ext cx="800100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Sažet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vjerenje u isplativost s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guće lokacije novih trgovina u razmatra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koro otvaranje no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r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irano otvaranje novih trgovina 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r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Kilkenn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a u Dublinu po pla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e u Galwayu kasni 2 tjed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ireland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tal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320" y="52560"/>
            <a:ext cx="2255760" cy="1395360"/>
            <a:chOff x="76320" y="52560"/>
            <a:chExt cx="2255760" cy="1395360"/>
          </a:xfrm>
        </p:grpSpPr>
        <p:sp>
          <p:nvSpPr>
            <p:cNvPr id="100" name=""/>
            <p:cNvSpPr/>
            <p:nvPr/>
          </p:nvSpPr>
          <p:spPr>
            <a:xfrm>
              <a:off x="7632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904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012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080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88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296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872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532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576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504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88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420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nc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u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26a Boulevard Victor Hu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98 Rue Lamar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112 Avenue Jean-Mede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FLAG_FRA" descr=""/>
          <p:cNvPicPr/>
          <p:nvPr/>
        </p:nvPicPr>
        <p:blipFill>
          <a:blip r:embed="rId1"/>
          <a:stretch/>
        </p:blipFill>
        <p:spPr>
          <a:xfrm>
            <a:off x="76320" y="0"/>
            <a:ext cx="1371600" cy="85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22:55Z</dcterms:created>
  <dc:creator/>
  <dc:description/>
  <dc:language>en-US</dc:language>
  <cp:lastModifiedBy>User</cp:lastModifiedBy>
  <dcterms:modified xsi:type="dcterms:W3CDTF">2003-10-21T12:24:43Z</dcterms:modified>
  <cp:revision>16</cp:revision>
  <dc:subject/>
  <dc:title>Snake Clothing Ltd</dc:title>
</cp:coreProperties>
</file>