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279-61B9-4A60-A0D3-A609E5D6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64E0-7AD6-4791-8279-6EB41795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6551-6D91-4B4A-822F-3CA44FD0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CFC-3516-41F3-9886-5A793848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9CEA-DECB-469A-81B8-EFE32E27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2475-2FF7-4325-8E72-19F20D63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98DD-BC7A-4A7B-BE3F-77B88108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ED24-6990-4A1B-B69E-FF5B7D43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7C6-CB99-412F-8DCE-4E350F66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EB2-D3AB-4218-B612-0E44DFBC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4E3-FF82-4068-9A87-6C82A928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548-2C08-424B-94F7-7975E58D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51E1-EFA4-4C6F-8A37-9E54AF41C8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b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wso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’Connell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to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so Vittorio Emmanu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so Euro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n Duo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ulevard Victor Hu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e Lamar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enue Jean-Medec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09:57:24Z</dcterms:created>
  <dc:creator/>
  <dc:description/>
  <dc:language>en-US</dc:language>
  <cp:lastModifiedBy>User</cp:lastModifiedBy>
  <dcterms:modified xsi:type="dcterms:W3CDTF">2003-10-21T12:08:16Z</dcterms:modified>
  <cp:revision>7</cp:revision>
  <dc:subject/>
  <dc:title>Dublin</dc:title>
</cp:coreProperties>
</file>