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44D-FA22-4E9E-BE36-9310E3F7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21C-E41C-4D31-A258-4CCF84F4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CD5-D8C9-4288-8405-3127716E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F2D-47F6-4BC6-94D8-F0E084A7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797D-A73B-43E6-94C1-E8525FE0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D573-D916-4572-8715-8901E425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96D4-5BD6-4D42-BF0F-A63108EC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3564-8AC2-4858-8F67-9C6BB61A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8028-C3FA-4030-8443-E96E4E3F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45CD-B809-4D09-9E67-3E826FD0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9310-4296-4032-A5EC-73121AAA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3A8-BB8F-4D42-8CD9-47B922F1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4CF4-91C9-4E78-A613-5D647EAC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22A6-F69E-475E-8F92-38414959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42FC-B140-4B86-8881-23A5E275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0992-D71E-45A9-B851-7212B441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E1E9-1812-4713-99CF-12E556D3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BEB-9576-4177-A434-67CEF5F4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0AA-0521-4309-BC4B-2558B62B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192-2A7A-4419-83F6-8B31E47A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25C-DF71-460F-8431-969FE888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776-74C9-4A40-A659-E75380C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485-B62C-4B8C-A42C-EE76B570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473-9299-41F3-B6D8-C8B893B8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849F-0595-46D9-A4A4-311B1FC48B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783F-3DE4-4D08-8F78-BD587A0CFC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utura Md BT"/>
              </a:rPr>
              <a:t>Click to edit the title text format</a:t>
            </a: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331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7960"/>
                </a:solidFill>
                <a:latin typeface="Trebuchet MS"/>
                <a:ea typeface="Arial"/>
              </a:rPr>
              <a:t>Predavanja :</a:t>
            </a:r>
            <a:endParaRPr b="1" lang="en-US" sz="36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4944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snove račun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33856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Upravljački sust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127320"/>
            <a:ext cx="5104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brada tek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93228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29T20:07:59Z</dcterms:modified>
  <cp:revision>6</cp:revision>
  <dc:subject/>
  <dc:title>Predavanja :</dc:title>
</cp:coreProperties>
</file>