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5D73-D294-49EB-B024-3757AE97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910F-4D10-4741-8C69-B62086AC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6D7-3DF5-4EBB-B636-2383A4CD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320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9840" y="126828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56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320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9840" y="3632400"/>
            <a:ext cx="251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01C-9279-4738-8A80-83E0F045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8374-28BD-45E6-B5B5-8A0D2FB8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6E26-CB24-4AF6-A339-DD6FE2E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4AA-EE1B-4C77-88E4-C9E7C451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F13B-0E3F-40C1-B688-623F3394A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291-9CFB-45E6-B99D-3464333E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EB3-6D1E-4169-9806-4F5A6FEF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2560" y="363240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DEBD-220E-4C0B-B542-76F9A21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2560" y="1268280"/>
            <a:ext cx="3805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560" y="3632400"/>
            <a:ext cx="7797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2CA-3467-4016-B35B-06B5B314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560" y="1268280"/>
            <a:ext cx="77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Click to edit the outline text format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con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Third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our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99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Fif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ix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90000"/>
                </a:solidFill>
                <a:latin typeface="Trebuchet MS"/>
              </a:rPr>
              <a:t>Seventh Outline Level</a:t>
            </a:r>
            <a:endParaRPr b="0" i="1" lang="en-US" sz="3200" spc="-1" strike="noStrike">
              <a:solidFill>
                <a:srgbClr val="99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2131-2824-493B-9233-0C3295DD192C}" type="datetime">
              <a:rPr b="0" lang="hr-HR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5B59-33CB-4A0F-AEED-634A943E2FA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i="1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6280" y="2170080"/>
            <a:ext cx="5816520" cy="1488960"/>
          </a:xfrm>
          <a:prstGeom prst="rect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990033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5400" spc="-1" strike="noStrike">
                <a:solidFill>
                  <a:srgbClr val="ffff00"/>
                </a:solidFill>
                <a:latin typeface="Trebuchet MS"/>
              </a:rPr>
              <a:t>E – pošt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0-12-31T22:00:00Z</dcterms:created>
  <dc:creator/>
  <dc:description/>
  <dc:language>en-US</dc:language>
  <cp:lastModifiedBy/>
  <dcterms:modified xsi:type="dcterms:W3CDTF">2004-07-08T20:10:19Z</dcterms:modified>
  <cp:revision>3</cp:revision>
  <dc:subject/>
  <dc:title>Slide 1</dc:title>
</cp:coreProperties>
</file>