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64A1-003A-4AFB-8461-58F4B24BD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7797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6560" y="3632400"/>
            <a:ext cx="7797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674D-B658-48E3-B968-43097992A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6560" y="363240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2560" y="363240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B0B5-B45A-4656-B88B-CC05A2BC4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63200" y="126828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9840" y="126828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6560" y="363240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63200" y="363240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9840" y="363240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22BC-CA05-47FB-BC6D-8C7FF5DEC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6560" y="1268280"/>
            <a:ext cx="7797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51B2-83C7-4F10-94B2-347512D91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779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174E-3EBC-4E65-9EA5-0D825A6EF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C6A5-3C8E-45AE-8A30-82F03D3FA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9908-F5EA-4176-82A5-BEE5D7DE3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0"/>
            <a:ext cx="82296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E365-19DE-4D26-B867-6A36B5A69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6560" y="363240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80A4-67FC-453F-9479-516CCF6C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2560" y="363240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8827-C95B-496C-A493-888F4398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6560" y="3632400"/>
            <a:ext cx="7797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EDC6-7862-4053-B6D2-101EABA0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26560" y="1268280"/>
            <a:ext cx="779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Click to edit the outline text format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Second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Third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Fourth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99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Fifth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Sixth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Seventh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5FB15-A08F-4888-9652-4C000D85FF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2133720"/>
            <a:ext cx="7088040" cy="1582560"/>
          </a:xfrm>
          <a:prstGeom prst="rect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990033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ff00"/>
                </a:solidFill>
                <a:latin typeface="Trebuchet MS"/>
              </a:rPr>
              <a:t>Dobro došli 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0-12-31T22:00:00Z</dcterms:created>
  <dc:creator/>
  <dc:description/>
  <dc:language>en-US</dc:language>
  <cp:lastModifiedBy/>
  <dcterms:modified xsi:type="dcterms:W3CDTF">2004-07-07T20:12:03Z</dcterms:modified>
  <cp:revision>3</cp:revision>
  <dc:subject/>
  <dc:title>Dobro došli !</dc:title>
</cp:coreProperties>
</file>