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638-24DB-42D4-B44E-85D3CBDE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EEE-A6F3-4C2E-9CE6-0943AD9D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6DE-9465-4D59-A153-2CA848C16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98C7-7079-48E0-94F7-ABA021A6B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BC1BC-5988-4799-8267-254F330CD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5A4D-E209-467A-B0F3-10342FCE8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4A21-8452-4A76-98C6-7976D5F5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D527-9858-4F2E-B895-0BD9A10C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112F-CB05-431B-8D16-B302A56D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144C-FB14-4313-ACE5-AC976111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422A-15F5-4071-A81F-9EFACB73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3731-216A-4649-AA89-A5AA46CB3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3497-DEDB-42C5-B8FC-42967EFE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E492-D8C7-43C5-A2FA-9AD53D7B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5A97-4879-4F96-AF60-1C3A751D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631C-6B31-4AEC-9EC3-C20FB504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07DB-D15C-4E30-B7CE-620BD689F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0442-77E0-4264-9D46-9D3C994CA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A0F-F5C3-434C-923D-0D92E597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BAC-B812-4B6A-929C-63FCA42F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28E1-EBCC-47A4-BD52-AC64A52A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993-FC91-45F9-A628-A53A4331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B727-53D1-4314-B266-0CE5DD63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EEA9-A2BA-43A1-A16D-E671FFD7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E004-2C71-4991-96E0-46A072F7156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7246-9FFD-4309-8AB5-5BBD11A5ACC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Futura Md BT"/>
              </a:rPr>
              <a:t>Click to edit the title text format</a:t>
            </a:r>
            <a:endParaRPr b="1" lang="en-US" sz="20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331308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e7960"/>
                </a:solidFill>
                <a:latin typeface="Trebuchet MS"/>
                <a:ea typeface="Arial"/>
              </a:rPr>
              <a:t>Predavanja :</a:t>
            </a:r>
            <a:endParaRPr b="1" lang="en-US" sz="3600" spc="-1" strike="noStrike">
              <a:solidFill>
                <a:srgbClr val="ff3300"/>
              </a:solidFill>
              <a:latin typeface="Futura Md BT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154944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Osnove računa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233856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Upravljački susta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547640" y="3127320"/>
            <a:ext cx="5104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Obrada teks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547640" y="3932280"/>
            <a:ext cx="5104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8c0000"/>
                </a:solidFill>
                <a:latin typeface="Trebuchet MS"/>
                <a:ea typeface="Arial"/>
              </a:rPr>
              <a:t>Intern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29T20:07:59Z</dcterms:modified>
  <cp:revision>6</cp:revision>
  <dc:subject/>
  <dc:title>Predavanja :</dc:title>
</cp:coreProperties>
</file>