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8A20-6530-45D4-9044-B9559858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C9E2-A87A-494D-8993-EA50236C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2663-9BE6-4454-97D5-5354323C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E9CF-1417-42C2-85A7-DC68A44E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E6E0-852C-4743-BC0D-619A60CE3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9132-9D51-464C-B096-885C0E5D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DF17-EAFE-432D-B17F-9E4466C6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D316-BCDA-4B7B-BE42-F158FDAC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2D4B-5978-42D9-89C2-53ADF190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54AC-24AE-45A0-8770-65CADDCC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8AC3-7EF6-490A-AD6B-FEBEA593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E7BF-64EC-4A11-AE89-66A1A3AE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F4BC-BC98-4160-BF14-3440DEC1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DFD1-BAF8-4D87-85FE-7DCDAEDD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F9CA-920F-434C-94A9-21C443FE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F503-9D08-48D4-B8A7-56245A43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E42B-487F-4DFB-8183-A87054D8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1C39-2034-42C0-868E-5830E342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A296-5DEC-4B2D-9EC5-421BE34E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A92D-DEF5-43F1-A1B9-99ABEEE4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2C98-5548-4F3A-8474-87C3392A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FD51-E8FF-464B-9945-3CACD8C1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F77C-88D3-43A8-B592-FDC4A269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53E1-5A50-4A43-A9D5-73536C9D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016F-37A3-4CA0-8F5F-C9FE111F086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58D6-5EFA-41C6-9960-95D7961E35B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Futura Md BT"/>
              </a:rPr>
              <a:t>Click to edit the title text format</a:t>
            </a: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3313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7960"/>
                </a:solidFill>
                <a:latin typeface="Trebuchet MS"/>
                <a:ea typeface="Arial"/>
              </a:rPr>
              <a:t>Predavanja :</a:t>
            </a:r>
            <a:endParaRPr b="1" lang="en-US" sz="36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1549440"/>
            <a:ext cx="5104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Osnove račun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2338560"/>
            <a:ext cx="5104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Upravljački susta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47640" y="3127320"/>
            <a:ext cx="5104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Obrada teks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3932280"/>
            <a:ext cx="5104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dcterms:modified xsi:type="dcterms:W3CDTF">2004-07-29T20:07:59Z</dcterms:modified>
  <cp:revision>6</cp:revision>
  <dc:subject/>
  <dc:title>Predavanja :</dc:title>
</cp:coreProperties>
</file>