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7FD7-A780-4F81-A3E9-398C2A723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7797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6560" y="3632400"/>
            <a:ext cx="7797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E0D4-A23D-4E13-953F-80F8903A7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6560" y="363240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2560" y="363240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1CA8-2D86-4B22-8BF4-4345E986D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63200" y="126828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9840" y="126828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6560" y="363240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63200" y="363240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9840" y="363240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7EAA-BA3A-4E91-A0B3-9DDBA6F90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6560" y="1268280"/>
            <a:ext cx="7797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B56A-78B0-4AD0-9753-BFBCB04EC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779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7457-BCB6-4D6E-8CE8-09D3AB835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57E3-CF9C-49BA-A945-3173E7D98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EEEF-07C9-495D-B2FE-007D3C0DB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0"/>
            <a:ext cx="82296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C682-A8EE-4BAA-91D9-8A19437FB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6560" y="363240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C40C-6861-41CE-9C89-A0EA487E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2560" y="363240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67C8-955E-443D-988A-AB8CC702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6560" y="3632400"/>
            <a:ext cx="7797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66A7-9231-482C-A971-F556C0E5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26560" y="1268280"/>
            <a:ext cx="779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Click to edit the outline text format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Second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Third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99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Fourth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99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Fifth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Sixth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Seventh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1D6DB-2614-4B34-8772-379CD89E2849}" type="datetime">
              <a:rPr b="0" lang="hr-HR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7B152-2A26-43FE-963B-19B47B166A6D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6280" y="2170080"/>
            <a:ext cx="5816520" cy="1488960"/>
          </a:xfrm>
          <a:prstGeom prst="rect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990033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5400" spc="-1" strike="noStrike">
                <a:solidFill>
                  <a:srgbClr val="ffff00"/>
                </a:solidFill>
                <a:latin typeface="Trebuchet MS"/>
              </a:rPr>
              <a:t>E – pošt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0-12-31T22:00:00Z</dcterms:created>
  <dc:creator/>
  <dc:description/>
  <dc:language>en-US</dc:language>
  <cp:lastModifiedBy/>
  <dcterms:modified xsi:type="dcterms:W3CDTF">2004-07-08T20:10:19Z</dcterms:modified>
  <cp:revision>3</cp:revision>
  <dc:subject/>
  <dc:title>Slide 1</dc:title>
</cp:coreProperties>
</file>