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C9A-44CF-4AEC-9337-26345C80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784-533E-4C22-AE2A-421EA0C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3C3-7C07-4463-97D5-73D61868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C10-94A6-44FE-93A9-6D2C891D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41E0-D7FF-4D58-9DB2-35836FA9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7CF-4F46-4CDA-9D92-C8C3135A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76E-1C0C-4C02-8514-5AC595D8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B2E-571C-4A63-B017-95FA7FEC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6C9-A89A-4F3E-AA1D-E32DC04A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0B9-6D3C-4CD8-8622-D169F6E9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69A-FC5E-46DF-AA19-4B5DA5ED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41D-CECA-43EA-90FB-9B790DC4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6DBD-7B17-49DD-ADA5-B6E9A1665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088040" cy="158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rebuchet MS"/>
              </a:rPr>
              <a:t>Dobro došli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7T20:12:03Z</dcterms:modified>
  <cp:revision>3</cp:revision>
  <dc:subject/>
  <dc:title>Dobro došli !</dc:title>
</cp:coreProperties>
</file>