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3706-55D5-4FBF-A117-5D536CA6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969-5AFB-46E8-81EB-22AF3FD0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BDE1-C3B1-44E5-82BF-62FB469B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20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984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56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20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984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5861-B8F1-4531-B819-3ECC7384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B2A-D717-4DCB-A896-95B9D603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564A-9485-4FAA-8717-3C7969D4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799C-449D-44AD-A569-273AE560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977-7898-4178-A99D-28627AEC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836-5A82-4ECC-BE13-9D951B46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DB9A-C72A-4AC2-A4C3-C5B08769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4926-3AC8-4AFD-B867-D893E22B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7D82-AE0D-46F6-AEF5-FF3D3B55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Click to edit the outline text format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con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Thir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our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if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ix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ven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5B0A-49E0-49F7-B390-B496DCB66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088040" cy="158256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990033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Trebuchet MS"/>
              </a:rPr>
              <a:t>Dobro došli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07T20:12:03Z</dcterms:modified>
  <cp:revision>3</cp:revision>
  <dc:subject/>
  <dc:title>Dobro došli !</dc:title>
</cp:coreProperties>
</file>